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35C-1816-4CDC-8881-0382434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D7F-D79B-41B9-A779-1B8AA33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8FA-5C53-4CDD-91BC-D92341CA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A66-196E-4FB7-B656-B7255F87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C53-574A-4212-8793-D01C375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698-5501-40D7-8ABA-33FD0A6C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37E-332C-4826-8FEA-EC794CF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1F2-D550-4C7D-B161-E62597C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57E-EC0C-4955-935F-770DE2F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006-8B5C-47E3-B4E9-627014DF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F37-05DC-4FAB-BD23-7958383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25C-FC00-4C1E-9B0C-AFCC6A5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EA6B9-4333-4CB3-8E93-026B3665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Does Kroger brand Velveeta taste different than reg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y: Bryan Anschut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Kroger brand Velveeta chee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Kraft Velveeta che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eople, Nick, Chrys, Robb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mma,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Bayle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, C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at Kroger brand will taste different than regular. Because kroger brand is cheaper than the regular because it doesn’t have all the right ingredia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Which cheese tastes different kraft or Kroger and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 conclusion was that the cheese tasted different because they had 2 totally different ingre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take 12 people 6 from each class and I will test if Velveeta cheese Kraft or Kroger b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na says that it tastes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lee says that they taste differ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lee says that they tast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tin P says that there isnt much taste differen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ys says they tast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lan says they taste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9:03:02Z</dcterms:created>
  <dc:creator>USD376</dc:creator>
  <dc:description/>
  <dc:language>en-US</dc:language>
  <cp:lastModifiedBy>STERLING  USD376</cp:lastModifiedBy>
  <cp:lastPrinted>2009-04-22T19:24:48Z</cp:lastPrinted>
  <dcterms:modified xsi:type="dcterms:W3CDTF">2011-03-11T14:47:22Z</dcterms:modified>
  <cp:revision>7</cp:revision>
  <dc:subject/>
  <dc:title>Does Kroger brand Velveeta taste different than regular.</dc:title>
</cp:coreProperties>
</file>